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1F14-3439-4D22-AD4F-545CBD21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2B2-B5C4-4995-AA57-212F327F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C9B5-DCA0-4963-A200-2CAF1F33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EB9D-73A9-4DEA-A9CC-3CA59596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F4F9-A1E6-4497-8714-124AF89B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644C-1831-4D2C-BF30-46A7106F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3705-2F11-40AA-8236-FD156253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2627-6546-47D3-977A-54AED65F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E234-25DA-4BAA-8157-65A25C6F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4760" y="8377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81F6-85AC-49D4-94C0-18CB295A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FDF5-D6FB-437C-95FF-2E0940B9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0F98-087D-4E74-BAC1-286EFC45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995C-520F-4435-8DD8-CCC11027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4241-423B-48E9-9516-C34E2CD0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70EA-1F92-4410-9EB5-F56AC5EA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8893-EE84-42C4-A989-556EAA80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7BB3-CFA9-4254-B5D8-C53A7790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706F-F336-4CC2-856A-B03C066E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190C-BA70-4C04-9319-5D2FF7CC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7E48-238C-403E-9F4C-AE6C1711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4760" y="8377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EC2-CFE2-4E41-A521-A7CD0A18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068-3DCD-46EC-8900-75DFC0A2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A64-39DE-4BA3-9ACE-064AD2C9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8258-1180-46FE-BC23-520B57A8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8E9F-8892-4D41-91F0-0C91EF234B51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31E7-4950-4BC6-B153-F30AB43990AF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end That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12520" y="3885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y: Disha Uppal, Allison Heicher, and Miranda Barker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Pickup Time and Delivery Method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d of the day, on Wednesday, April 8th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vernight Delivery by UPS Groun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2843280" cy="337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Cost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4114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$9.06 USD - Cost per unit to ship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$15.00- Cost per baske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$5.00- Cost of labor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3886200" cy="314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Why?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cleaning basket isn’t too expensive for us to make. Therefore, we are able to ship it at a low cost, and still make profi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customer’s bill would include labor, cost of the supplies, and shipping, therefore, we would make a profi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Why UPS Ground? 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PS Ground is the quickest, and most cost efficient method of transport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t wouldn’t make sense to ship it by air, or water, considering the place we are shipping to, and the cost of our produc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3:53:48Z</dcterms:created>
  <dc:creator>MPS MPS</dc:creator>
  <dc:description/>
  <dc:language>en-US</dc:language>
  <cp:lastModifiedBy>MPS MPS</cp:lastModifiedBy>
  <dcterms:modified xsi:type="dcterms:W3CDTF">2009-04-07T14:13:12Z</dcterms:modified>
  <cp:revision>3</cp:revision>
  <dc:subject/>
  <dc:title>Send That</dc:title>
</cp:coreProperties>
</file>